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7E4-BC83-49AE-8E93-64EEA277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E6E-7D04-4190-8C3B-28D1254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75B08-3B2C-44EC-A673-11FA323D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A23BE-674B-4AE5-9617-F7A04783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444F5-753E-435B-BD4B-63A4EFA5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51C67-7B93-42DE-A8BC-6549B4A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7C929-BE11-4054-B055-CB4E174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0D589-4887-4930-ACD5-742C3A98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8372B-41B9-4DDF-AD98-F6908177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943C7-0F8D-48CF-A6ED-8046EF82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F5AA5-C594-4F2E-8BA3-F0AA2E34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95F81-E152-435B-8492-59E42CD1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7C2-5D4D-47ED-864F-F4318EA9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F42E1-22CE-4D25-8976-27214049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D62EB-3789-4FA3-9919-F4C9319D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5F930-61CB-495D-9C0B-12C7FF39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29627-60CB-454D-99E0-6F8EB202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5C9CD-5BED-455A-BFB3-4250A4B3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4C900-E81B-46F9-80A8-2262057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A606C-372A-479F-BD86-758C4D92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31F2B-27C1-4FCC-B97E-F693FBAB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605FD-8DC5-4DDF-B037-DA3D74BD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9F8EA-9C66-42DC-98C8-F9FBEAD7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C63-0F1C-4A91-B6EF-6B8C53B5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DEE10-12C2-4CD0-A58E-CF1C7DBD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1CE2E-B3B5-425B-9859-7CD37D2E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23CA3-2693-43B8-B9E2-83921B1C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6B7CB-0E5B-48C8-8E53-93D8D3F8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CFF06-EA96-45C7-BA31-6679C394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EF319-FCD6-4717-9DDE-1BF73F57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3800-C793-4714-9BF1-D73B0DFA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E8D1A-4429-4FED-BB03-6A4A89CA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4990A-15C8-4F4E-A2BB-BFCEA5BE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1A922-A085-4B58-AC7E-EDEA8FC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7ECE-F43B-4C8E-A339-F80442C1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87057-2ED1-4003-A8C2-9ECF81E1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13279-5A1B-4C55-AAE5-EE0698E5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99176-ACA1-4551-BB3A-064307D6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89822-C1B2-45AC-AD05-882723F0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682F8-843C-462E-A473-E5928E94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A6B95-FF46-4A64-8A6A-143CF1E0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039B0-B5A5-46DA-91E0-45AD71A5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D8140-78DA-432F-B239-8CA08A9D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21970-FDAB-4852-8148-3A25DDA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F9A49-4EE6-45C1-9203-4D827725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E4F1-6345-4DAB-B0BF-09A00AF3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119F2-1523-4D86-80E9-C5B89B42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30050-D894-4CC6-8195-88311DF1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E4D2F-14D9-4704-A908-ABFC0AE4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CE693-E29A-4155-9F0B-B6832DE7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1C088-5B8A-45F7-9FA5-FE92F2B7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B9FD6-5344-40F3-93EB-BE6BD1A6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68D8E-9FA7-45AF-BF22-F0A1C2C2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67F18-9A96-4353-BFF8-6317E16B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E4AD7-363D-4EBB-9457-BEF379CB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64625-DA56-46F9-BB7B-B2F285A8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7B38-BA78-4B4F-8E45-89E4F200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8D02F-3D13-487D-8234-BBF72401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622DC-4FAB-4A88-A0A7-EE9D0856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EBC92-A770-4D8D-9977-2094FFBE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F2E39-B0DC-49F3-B50A-B6EB12B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84A24-9EA6-486A-B746-D4982BCD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F1304-0E46-44D2-9317-8095FF90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E81B9-1D25-46A9-8305-9BAC0121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F7BF6-928C-411F-BE98-E71F8447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23F95-4EEE-4D37-A4A1-3E8E2B5F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34A87-8B07-4CDB-AF65-B482E875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7D78-387C-4114-ACE4-0CA8F618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C65CA-663B-4496-8EE7-1387C63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7643A-2033-404D-9627-D2989A54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3F7C9-3026-4CC8-A279-EE80F2CD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41A9D-F786-4C8D-A704-2FDFB48F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4785A-16AC-48A5-8187-DEE4DF45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9DA20-0931-4E17-8633-8B474E6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729FA-BCA8-4870-8B1C-DC48016E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291BC-0F25-41B0-AC2C-FE5586D2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20B30-3F6B-4F6E-83E2-5DF3ED75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1D0B2-6430-436F-A4C8-E7E19DE9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DC1A-EA4C-4C29-831F-02F4A0EC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214E1-2D48-4EB6-9854-7DD1F8DF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0DA19-6B72-45FA-BA03-CFC89A85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55200-E7F0-4739-B760-7E0BEBEC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4EF2C-BA2B-4778-944E-E081F7B3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94E41-16BA-4223-BAEB-A4CEE28C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E33ED-8D41-4DB4-8984-9FCCBEBE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290E7-D15F-436D-9DCC-C14F9874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278A9-D145-4B97-9B50-34DC27B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074398-DEBA-45EE-B335-81BDADEE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473EA-830C-41E8-A83B-8E020189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8794-0E44-4BBC-AD64-24B62672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D4CC7-2544-46E7-86D2-D591A439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2E3C9-E576-4264-9C21-30054EDF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97345-E803-4DA7-BA66-5FD1DBA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B0ED0-FE4D-4E17-9F5D-4692A32B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8C662-84E8-4949-B1AC-0D79A5FD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9035D-2B64-42DB-BA65-87D91452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E1D08-0C64-45FF-8712-03AB0A90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BD1AD-FBAA-465D-9C3D-F4BDE0D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94173-597A-4A12-BF5E-622EA62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FB42D-83A1-457A-9FAC-9BE41F9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F2D2-48E3-4454-B5AD-4E32FD54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489A8-6F97-4842-9313-F768456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C9C76-66A8-4B92-B0C9-A76DF161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90A80-0084-4E59-B98A-A5D95CCD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C4DD0F-40ED-4C42-B760-287A30C2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6A94D-0D25-495C-8C82-95906B25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A20A2-0D11-4761-95BB-794394E2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E6E77E-575B-4D23-B780-0705B23C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EEFC8-32AB-44E5-98DE-697BEB85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41F7E-999E-4166-83DB-1A8E8E22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5E90C-65A6-409D-B532-7B520D1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7F1-CDC3-4B84-84A6-E20B65EB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E5BB-62B4-4FF1-87FC-E1F5CF4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B32D13-634A-4EF2-93BA-1947C0B5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C28B0-7555-4A2F-8E7E-071687E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296252-63A9-42CE-87DB-F8272C35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D5812-2127-4D36-828C-5D6D8F33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CA5A6-36EE-4095-890C-A057307B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3A4AF-F63A-49B3-A3BD-1DD38310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A48258-C244-4D70-ADED-7E7062C7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A333E-304C-4CB1-A076-1B53376E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C4052-DD01-4450-9407-875DD621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E5F0E-C762-4633-90D9-D1597E34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40AC-87A0-4F16-AB33-FC25C43F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28D8CF-A7E6-4534-90C3-AB0A3BB4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05819-8288-4D07-B79E-B37C74EB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60C48-F69E-4EE5-9104-582B59D4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4152A-DA2E-4879-8C26-7EE4234F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F2CE09-8839-480C-B0DA-2D01D189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BE99B-60F3-4C01-9663-B61C2FB1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CF519-8FDE-4C67-9C6C-235068A0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921D2-E590-4DFD-A415-FA307CA0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3A7D9A-D294-4D61-AD53-A3D38F3F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17C10-3F36-4FBA-85F6-F1400479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5BBE-72F0-4681-B09B-8006D491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88B25-029D-4146-A96F-0E369276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01C7B-863B-4CB6-9437-D72705E4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FA4A0-9B9F-4E43-B01C-801B3101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8EB93-3410-42CC-95F7-88961FC3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5731AF-9214-4AB2-B75C-240047AA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E5D55-FE2D-4294-B6E0-18D08D3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22E18-3F65-48A7-9FA3-6062570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BF36E-6036-4EBE-8D3F-08A1BE0A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37DF50-306E-41B2-8A74-335014C5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D4F07B-C3A8-4163-8FBF-EE5E70F0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7673-4440-42EC-9303-89AA8A27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ECA577-E901-436D-BED2-931CEBC8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70AA8-C7EC-4C03-A5FC-F3E7C80C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2E2F1A-1E0E-4356-9075-5DE0C5A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2D994-6ED5-43B9-974A-571D320A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75E4B-48F3-4148-91C6-5526A7F3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B4839-5D9F-499A-B7A9-8DD3D82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12D542-FADF-46FD-9962-276CE63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1284C-24A8-4BCA-A838-F732886E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7CF8B-F2FD-4279-B86C-C8F8C0BF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971B9B-676C-4655-9C10-9958549C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5804-910F-400E-8627-3FA8494C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A08C5-DD58-47A6-A9BB-E19B6093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49F3C-7B9D-44B0-B3EB-59391779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73FEA5-65F2-457B-8DD4-929205E0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6966EF-00A0-43A4-B0A8-2BB7A401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99E30-B564-4034-88DD-53F93470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9A8F4-9143-4591-95A5-83B9027C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283D7-A38B-4B03-AB07-B89CCCDA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10812-3DFB-409E-B416-5CF0C888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01F2F-3CDB-462F-9CBD-4A234D1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C7959-64E2-4E3D-B92E-4BFEE150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32BB-2856-442C-B70E-C420F735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94B58-3F6B-475A-82D4-15B0607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F61963-F835-454A-A4E3-8FC60DD0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7DB080-10B7-4F20-B3B3-D63CE958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F237FA-81E7-4E0A-A829-539362D6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7B333A-D453-4A55-9F80-A5B8A719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A4D383-0751-476C-873C-0E0CCDFE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AADC6-BB5E-42BB-991F-5D864809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3164B2-0747-41AE-8FFD-DEC4E6A6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021DFE-D030-4FAF-AFF7-FF1FA12C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606D61-8DF7-4E3D-BB44-E59A0C4B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69D01-B0BB-48E1-9BBA-370F7C87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04F0A-1E8E-4BD8-9779-A8B7D0BF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56AD46-06AD-48CB-BAE7-1D45BF6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CA090B-95F4-4AAB-85B2-F502504C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66AADE-B184-4FE7-81B9-26B08AFD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323483-8F29-4135-A875-39FFEECC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3838-0AB6-4356-A94E-F7A41E3E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8919-B26A-466F-AD40-541E4E81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0C89-D44F-4E85-84B5-31A0E155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545-1A62-429B-8F9A-22DA1866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6CEA-A63C-471E-9AEE-0F9A958F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634C-36FF-4E51-BB13-DB4042A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7D2F-B37A-4DD0-89E3-FC3E38D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3F48-EAA0-406D-A2C2-52430E56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137B-CC0F-4C92-B500-9978215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9938-C8B0-44DB-95AB-3C1CA982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8987-1661-4FD4-B7A4-C658093B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0A98-2618-4261-99A6-0E6F5CAA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D14B-B124-4B8F-93C9-8136B14A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B11A5-B348-4B0B-84B5-6C454770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D33-C2DD-46C1-9325-317D6329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CCAE-FBE7-4F48-AC31-39027015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F36A-4ECA-47EB-B9E1-EC5C5A88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392E-D4A7-4D7E-9C64-FA3B30E3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F8F2-A129-4BBE-B7D6-5B9EE5DB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A274-B2C2-4ABF-8689-E6EFC7A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9C35-981F-4810-A960-F40FBE39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9FB9-1397-469A-8460-563F116C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AA61A-3D2E-43D6-90A1-8EB34CDC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EC4D-5D0E-4916-B004-400947CC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B9FF-005A-4B04-A057-B4580F06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C00-08D0-4550-8948-CAF951FE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0EA32-4A6D-4CB5-8E53-4366B363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65E70-4E84-4007-9FA2-CB181D91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614CA-3915-4138-903B-55FC7D34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F581E-00D1-4AF5-8AE0-D051B088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3D4BF-00F1-4457-AFF0-8DE7B4FA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36C7-27C4-4F32-B0B5-BDA73DE3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76339-F6B6-4C1C-B644-CA75A46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7C1B-D209-4D96-9D4E-E7EA37C0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1C63F-DFC4-452C-9201-C7CF8F27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EEFCD-C09C-406D-A267-4BCFF3E1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7FF-EFB5-456C-B93F-853CD783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8548E-4EFD-424E-9412-A29DFF51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3AE20-BE8F-4D7E-92BB-0F3D551A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AB9AC-DCCC-47FC-99FA-8D4D1C40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D5D6E-E178-4075-B18D-1D8BFC8A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CB148-FC10-4F13-A831-350F9CC6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DB508-4168-4753-8FC8-99EB0F95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89038-9AE2-4D34-936D-43A958E3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3E86-00B6-40AB-891B-81BBA2C7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DC28E-E243-4246-B4B6-ED778BE8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48D9-C57F-429B-ACE2-4E6C43A2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CDD-CDF9-4171-BF6E-B108487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E299-5DF3-41DC-80D8-4486FF82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B0B1C-C4E5-45A5-9A4B-3896FF5F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01B0B-F035-4C67-8DE7-0707FCA8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1E703-1CD3-4AC0-B7FA-A703E58F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EE52-7F47-4A55-9A3E-DCED168D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2622C-7CB4-4F94-AB29-6B1A2572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D8776-0667-427A-B7DC-BB0B2747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64AA-7EE2-4ACD-9B2B-1CD0A0BC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5456F-7389-4036-BC04-1DA280BE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64970-2309-419B-9D8B-432CCFF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9F2-ACA5-481D-9323-A340C82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E7492-0AEA-4861-90BE-2D3E660B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06276-1C3C-4D2A-BE0D-27C72FA3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C1D66-6984-4F2B-BC62-8667F9B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29577-3A8F-4BAE-8291-68D7AB24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2E9B9-9477-4615-98B6-2E02370D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55DE0-3697-4F8F-A597-05246D7B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184E2-96B5-4F0B-8F60-6EA863C5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CFE6C-8B38-49F3-B68A-5F3F974E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05A01-0494-4B01-AC03-1B83063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AE732-1A39-4D5D-A6C4-1C8239BE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086-80C0-4312-A950-9EE6166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0A455-676F-4E25-8026-D44F6AE4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0B701-4B57-47B9-B1B6-BA529230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B4CCC-C244-4B9B-A5B8-E084639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97241-55AE-4152-916C-63C8BDA0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A9AFA-BC32-4F0E-9511-2615316D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3FE88-959F-486A-B612-1E78775D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B8B09-8A01-464D-AC67-8AEDAC6C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D0A3D-C51F-4517-A560-D3B95507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3F88D-1EBF-40EB-87A4-B1F11DF5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B0FB5-D62C-4EFB-9384-B68B52FA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F1AB-0160-42B8-8D7E-C89B821E5D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43DF-2D5B-400B-911E-9CE8BC96C2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3F08-E486-4773-9EF2-4466073CA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8808-2629-487A-B9D3-8FBF132696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4059-49F4-497C-A8AB-1D7439B95F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285D-3613-4835-9624-83F686A044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8518-8B23-429D-808C-1549F3190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7443-126D-4FF6-B489-BECCDDC71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2DC7-C3C5-4A3D-BF19-D5194C381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DEDB-9576-4998-9906-910325F10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3E4C-AAFF-44BC-9B43-DB696A506C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DF99-06D7-4888-85D6-9B67653AC6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FB65-448E-468D-9706-54F01C7A24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0471-F2AC-4C95-8D63-09D835E9B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303-921A-4C1C-A050-2EDE70683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660D-533D-47E1-A290-4DBAA401EE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46B6-683F-4781-BAED-D8E38E07A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42DA-F803-4F5D-AAA3-9D53A2D686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D146-B6A5-435B-AD63-8CAA3E42EC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456A-C3F9-462E-9F5E-06FB80CC1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2F8F-74C3-44B6-A450-645DE0BDA8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C1F3-90DE-4BFC-BA27-E3CDA0828F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0F49-3CE2-4E01-A86D-04218B98EA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E827-1932-46D2-88C6-90F1DEC0E5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525E-BFFF-4E67-A22C-005FCCA7F3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741-209A-4B71-A581-49B4CD0DCF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2CD4-241E-409E-8816-B7513E762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08FF-8F06-4D2B-A8B6-1165BE6FCE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E685-C3EE-4D28-A48D-65979FA2C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636A-4B7D-4605-BECF-C8CAA13E4D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818-297D-478C-BD60-D7E80D37DE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3436-21B4-4974-BD60-1DD3AD0C14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2D81-58CB-4331-B92D-6549A31980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D110-87BF-4DB8-8E6E-995A109700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AFDE-FD6C-4106-BE59-B82A0AB63D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D927-BA62-4D5A-8FF8-488C0DA5FC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4921-E6E5-48B7-9520-D73524463F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BD56-D463-4885-98B4-EC84DBD4D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285B-E699-4714-A021-7903AB2A9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3896-82FF-47A1-9540-708BA8581A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DFB8-0B5D-4B2C-BE58-8B69E36B6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290680" y="3119400"/>
            <a:ext cx="4562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33480" y="1162080"/>
            <a:ext cx="9077040" cy="4533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303200" y="2435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449520" y="2435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580000" y="24494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726320" y="2435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1289160" y="28670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3435480" y="28670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565600" y="28814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7726320" y="2867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1346040" y="3449520"/>
            <a:ext cx="303480" cy="2700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1346040" y="4048200"/>
            <a:ext cx="303480" cy="2696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1346040" y="4610160"/>
            <a:ext cx="303480" cy="2696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1346040" y="5229360"/>
            <a:ext cx="303480" cy="2696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4024440" y="3443400"/>
            <a:ext cx="303120" cy="2696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4024440" y="403380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6"/>
          <a:stretch/>
        </p:blipFill>
        <p:spPr>
          <a:xfrm>
            <a:off x="4024440" y="4624560"/>
            <a:ext cx="303120" cy="2696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7"/>
          <a:stretch/>
        </p:blipFill>
        <p:spPr>
          <a:xfrm>
            <a:off x="4024440" y="5229360"/>
            <a:ext cx="303120" cy="2696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8"/>
          <a:stretch/>
        </p:blipFill>
        <p:spPr>
          <a:xfrm>
            <a:off x="7467480" y="420696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7169" descr=""/>
          <p:cNvPicPr/>
          <p:nvPr/>
        </p:nvPicPr>
        <p:blipFill>
          <a:blip r:embed="rId1"/>
          <a:stretch/>
        </p:blipFill>
        <p:spPr>
          <a:xfrm>
            <a:off x="171360" y="1566720"/>
            <a:ext cx="8801280" cy="37245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"/>
          <a:stretch/>
        </p:blipFill>
        <p:spPr>
          <a:xfrm>
            <a:off x="1619280" y="302436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6315120" y="302580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1590840" y="49165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5"/>
          <a:stretch/>
        </p:blipFill>
        <p:spPr>
          <a:xfrm>
            <a:off x="6026040" y="489744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8193" descr=""/>
          <p:cNvPicPr/>
          <p:nvPr/>
        </p:nvPicPr>
        <p:blipFill>
          <a:blip r:embed="rId1"/>
          <a:stretch/>
        </p:blipFill>
        <p:spPr>
          <a:xfrm>
            <a:off x="223920" y="1352520"/>
            <a:ext cx="8696160" cy="415296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8194" descr=""/>
          <p:cNvPicPr/>
          <p:nvPr/>
        </p:nvPicPr>
        <p:blipFill>
          <a:blip r:embed="rId2"/>
          <a:stretch/>
        </p:blipFill>
        <p:spPr>
          <a:xfrm>
            <a:off x="5479920" y="3154320"/>
            <a:ext cx="1733760" cy="47628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8195" descr=""/>
          <p:cNvPicPr/>
          <p:nvPr/>
        </p:nvPicPr>
        <p:blipFill>
          <a:blip r:embed="rId3"/>
          <a:stretch/>
        </p:blipFill>
        <p:spPr>
          <a:xfrm>
            <a:off x="1490760" y="3213000"/>
            <a:ext cx="1757160" cy="41616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8196" descr=""/>
          <p:cNvPicPr/>
          <p:nvPr/>
        </p:nvPicPr>
        <p:blipFill>
          <a:blip r:embed="rId4"/>
          <a:stretch/>
        </p:blipFill>
        <p:spPr>
          <a:xfrm>
            <a:off x="1504800" y="3816360"/>
            <a:ext cx="1757520" cy="41580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8197" descr=""/>
          <p:cNvPicPr/>
          <p:nvPr/>
        </p:nvPicPr>
        <p:blipFill>
          <a:blip r:embed="rId5"/>
          <a:stretch/>
        </p:blipFill>
        <p:spPr>
          <a:xfrm>
            <a:off x="1476360" y="4408560"/>
            <a:ext cx="1757520" cy="41580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8198" descr=""/>
          <p:cNvPicPr/>
          <p:nvPr/>
        </p:nvPicPr>
        <p:blipFill>
          <a:blip r:embed="rId6"/>
          <a:stretch/>
        </p:blipFill>
        <p:spPr>
          <a:xfrm>
            <a:off x="1490760" y="4997520"/>
            <a:ext cx="1757160" cy="41580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8199" descr=""/>
          <p:cNvPicPr/>
          <p:nvPr/>
        </p:nvPicPr>
        <p:blipFill>
          <a:blip r:embed="rId7"/>
          <a:stretch/>
        </p:blipFill>
        <p:spPr>
          <a:xfrm>
            <a:off x="5479920" y="3759120"/>
            <a:ext cx="1733760" cy="47628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8200" descr=""/>
          <p:cNvPicPr/>
          <p:nvPr/>
        </p:nvPicPr>
        <p:blipFill>
          <a:blip r:embed="rId8"/>
          <a:stretch/>
        </p:blipFill>
        <p:spPr>
          <a:xfrm>
            <a:off x="5506920" y="4335480"/>
            <a:ext cx="1733760" cy="47628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8201" descr=""/>
          <p:cNvPicPr/>
          <p:nvPr/>
        </p:nvPicPr>
        <p:blipFill>
          <a:blip r:embed="rId9"/>
          <a:stretch/>
        </p:blipFill>
        <p:spPr>
          <a:xfrm>
            <a:off x="5506920" y="4925880"/>
            <a:ext cx="1733760" cy="4762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10"/>
          <a:stretch/>
        </p:blipFill>
        <p:spPr>
          <a:xfrm>
            <a:off x="7308720" y="5027760"/>
            <a:ext cx="1584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1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